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837ED00D-01EE-47C3-883F-3AF908234C13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AF3399BD-1D07-42C6-A4D9-CCB6428EC768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25640" y="1752480"/>
            <a:ext cx="65530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Module: Teaching PSP2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Fundamentals/Advanced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17720" y="1709640"/>
          <a:ext cx="7413480" cy="4659480"/>
        </p:xfrm>
        <a:graphic>
          <a:graphicData uri="http://schemas.openxmlformats.org/drawingml/2006/table">
            <a:tbl>
              <a:tblPr/>
              <a:tblGrid>
                <a:gridCol w="1492200"/>
                <a:gridCol w="2963880"/>
                <a:gridCol w="2957400"/>
              </a:tblGrid>
              <a:tr h="45720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Overview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 Fundamental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Students learn to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 Advanced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Students learn to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0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follow a defined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ollect complete, consistent and accurate time, size, defect, and schedule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define and instrument a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evolve a process based on analysis and PIP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1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a defined estimating process with limited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their plan status and project likely completion dat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statistical methods improvement their estimates and calculate prediction interv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data analysis techniques to examine and improve their estimating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2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build personal design and review checklist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onduct a personal review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their quality status and project likely final quality levels.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reate designs that are reviewable and verifiable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verify designs using different techniqu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data analysis techniques to examine and improve their overall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6664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Capstone Exercise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and use personal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work in a team environment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erformance Analysis Repor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identify their strengths and weakness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set challenging and realistic personal improvement go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define changes required to achieve go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Student Presentations - Evaluation Criteria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87632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monstrates good rapport with participants (e.g., faces class, maintains eye contact, call participants by names.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monstrates understanding of PSP material; has an acceptable working knowledge of PSP content and applic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acilitates exercises as instructed; provides appropriate guidance for participants; debriefs exercises appropriatel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ncourages participant involvement/interac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tains control of course delivery; pays attention to binning inappropriate topic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sponds appropriately and accurately to participant questions; re-frames as necessar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materials at a level and rate that enables both participant learning and timely course comple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course content in a way that develops participant understanding and learn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course content in a way that develops and maintains participant intere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2 students learn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and manage personal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 design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control process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who learn and correctly practice the review techniques produce code that is nearly free of defects after code revie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ing to conduct effective personal reviews is a key learning objec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module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you to understand the objectives of PSP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you to understand the recommended approach to teaching PSP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w you to participate and learn from teaching demonstrations of selected PSP2 material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utlin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2 learning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pics covered in PSP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Presen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Ver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ing and Improving Quality Perform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 and Tracking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PSP2 tuto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2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PSP2 are to introdu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orderly design frame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arning Objectives for PSP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28520" y="168732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and manage personal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 design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control process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who learn and correctly practice the review techniques produce code that is nearly free of defects after code revie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ing to conduct effective personal reviews is a key learning objec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nal report should demonstrate the degree to which the student has mastered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10 Day / 8 Program Cour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6 – PSP2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Course overview lectur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oftware quality lectur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Using PSP2 tutorial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impson's integration program assignment (program 5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7 – PSP2.1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oftware design I lectur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Using PSP 2.1 tutorial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earch algorithm program assignment (Program 6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8 – PSP2.1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oftware design II lectur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BE estimating program assignment (Program 7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9 – PSP2.1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esign verification lectur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Multiple regression program assignment (Program 8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10 – PSP2.1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Using the PSP lectur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Final report assign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Fundamentals/Advanced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y 3 – Fundament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quality le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and code review checklist assig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de review exerci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PSP2 tuto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near regression/correlation program assignment (program 3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y 4 – Fundament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lative size table program assignment (Program 4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y 5 – Fundament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pstone exerci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and launch overview le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Fundamentals/Advanced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720" y="1709640"/>
            <a:ext cx="77594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1 – Advan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oftware design  and verification lectur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esign template and verification exercis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Using PSP2.1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impson's integration program assignment (program 5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2 – Advanced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earch algorithm program assignment (Program 6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3 – Advanced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Understanding and improving qual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lanning and tracking qual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BE estimating program assignment (Program 7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4 – Advanced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efining and improving personal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cess definition exerci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cess definition tool tutorial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erformance analysis report assign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5 – Advanced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Being a TSP team member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Capstone exerci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0Z</dcterms:modified>
  <cp:revision>204</cp:revision>
  <dc:subject/>
  <dc:title>No Slide Title</dc:title>
</cp:coreProperties>
</file>